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D094-8467-41C2-A7DF-AF4A79B43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E984-3E0B-4BAC-8E3B-5A6C1FD1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quidoo.com/trizz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FFD4-DB93-4FE1-A789-A8E9BFC53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www.boundless.com/biology/flowering-plants/angiosperm-life-cycle/flower-and-pollinators-evolved-togeth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orch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A971-68B4-486C-BDC6-659F42F5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CA21-F7DC-4BD7-A3B2-49839E8C9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bs.org/wgbh/evolution/library/01/6/image_pop/l_016_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786A-A1D3-407D-B28B-56674BC49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2E6C-B0EE-4B8B-99C0-BB9A81538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chsweb.lr.k12.nj.us/mstanley/outlines/evolution/selection/seltyp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D2B2-8C1F-459C-9596-931F2C43A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787C-7F04-4ED6-9A76-1E0AA7F99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bs.org/wgbh/evolution/library/01/4/image_pop/l_014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3C4B-D140-401A-8E20-9925827C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xtwriter.com/backgrounders/evolution/EVpage1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94F9-972F-4BA9-A0D8-21469BED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0010-A3FB-495A-A9CA-6F4B31EAF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zooblogogy.tumblr.com/post/39029261422/during-his-trip-to-madagascar-charles-da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690-F761-4EDD-BEB0-7F612160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567-44E3-47BB-8FE1-54D87860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94D-D701-4922-9AFF-38D5BE8E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E45-40B8-4FA1-8EE8-A2DAF43C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6B2-79D6-4955-A667-100F4205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8056-CB1D-4F7F-A1E6-F12A63C6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2DF-12EF-4A61-9EEE-19E4D1EC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8F4-3EE6-4FF2-B217-CCDADC87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890-ED75-46F8-84F8-8EF4221E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175-DA4E-4EC0-BE9B-AE7204F0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1DC-E532-4453-B6E2-ED5D594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BAF-733B-4F1B-B7A4-5547274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07E4-07CB-4EAF-A1AB-5BA445B00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cM23M-CCog" TargetMode="External"/><Relationship Id="rId2" Type="http://schemas.openxmlformats.org/officeDocument/2006/relationships/hyperlink" Target="https://www.youtube.com/watch?v=mcM23M-CCo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Evolution (8.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ophrys-apifera-28flower-29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pecies evolves in response to the evolution of anothe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ronounced in symbiotic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ak of the Fi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40-year+ study on the evolution of finch beaks on the Galapagos Islands that nicely illustrates natural selection, reproductive isolating mechanisms, patterns of evolution, etc.  Video link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=mcM23M-CC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_016_02_l"/>
          <p:cNvPicPr/>
          <p:nvPr/>
        </p:nvPicPr>
        <p:blipFill>
          <a:blip r:embed="rId1"/>
          <a:stretch/>
        </p:blipFill>
        <p:spPr>
          <a:xfrm>
            <a:off x="304920" y="1630440"/>
            <a:ext cx="86104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pecies into many new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variety of formerly empty ecological n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gent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ltyp2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gent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a group into many different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between species is minimized because each fills specialized ecological n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increased bio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gent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l_014_01_l"/>
          <p:cNvPicPr/>
          <p:nvPr/>
        </p:nvPicPr>
        <p:blipFill>
          <a:blip r:embed="rId1"/>
          <a:stretch/>
        </p:blipFill>
        <p:spPr>
          <a:xfrm>
            <a:off x="304920" y="1911240"/>
            <a:ext cx="84582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page14"/>
          <p:cNvPicPr/>
          <p:nvPr/>
        </p:nvPicPr>
        <p:blipFill>
          <a:blip r:embed="rId1"/>
          <a:stretch/>
        </p:blipFill>
        <p:spPr>
          <a:xfrm>
            <a:off x="2387520" y="609480"/>
            <a:ext cx="4367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gent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similar traits (analagous features) in distantly relat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under similar selective pressures (environ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umblr_mfps0nzacX1r73gb1o1_400"/>
          <p:cNvPicPr/>
          <p:nvPr/>
        </p:nvPicPr>
        <p:blipFill>
          <a:blip r:embed="rId1"/>
          <a:stretch/>
        </p:blipFill>
        <p:spPr>
          <a:xfrm>
            <a:off x="750960" y="1981080"/>
            <a:ext cx="764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2:05:00Z</dcterms:created>
  <dc:creator>rubina khan</dc:creator>
  <dc:description/>
  <dc:language>en-US</dc:language>
  <cp:lastModifiedBy>rubina khan</cp:lastModifiedBy>
  <dcterms:modified xsi:type="dcterms:W3CDTF">2017-04-27T12:58:29Z</dcterms:modified>
  <cp:revision>16</cp:revision>
  <dc:subject/>
  <dc:title>PowerPoint Presentation</dc:title>
</cp:coreProperties>
</file>